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8.jpeg" ContentType="image/jpeg"/>
  <Override PartName="/ppt/media/image9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5.gif" ContentType="image/gif"/>
  <Override PartName="/ppt/media/image3.wmf" ContentType="image/x-wmf"/>
  <Override PartName="/ppt/media/image2.png" ContentType="image/png"/>
  <Override PartName="/ppt/media/image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.jpeg" ContentType="image/jpe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5.gif" ContentType="image/gif"/>
  <Override PartName="/ppt/media/image17.wmf" ContentType="image/x-wmf"/>
  <Override PartName="/ppt/media/image16.jpeg" ContentType="image/jpeg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78F2-BF4C-4EFF-B630-129176F6B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F702-0271-409F-929E-03A957191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1A5D-8E6B-45F5-A5E1-5AF7B0546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88FB-B46E-4032-9985-FECDB1768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7A6B-15D0-4BFE-992B-414F50E11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0F64-1125-42B4-B0AD-3F295BE8E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9D36-001B-4D3E-B1F8-0447DAB7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D088-C7D6-488C-B55E-FA36BE57D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79A6-17F0-4C14-8914-CEEC135C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33CE-4AC4-42D0-AB13-4751CC626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2AE2-D288-4FD9-8062-7D063718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BD26-3F23-4F91-89F4-0EC32F0C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C248-2CAA-4B41-9778-BC84C28F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C0AE-8357-4AD6-B795-E6222049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8222-D021-4F3B-B19A-23087256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0FFB-7CC2-45E6-B3D8-19BAD127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D102-4A76-4972-BE5E-287C8ADB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AE8C-253D-46B7-A793-20541135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E213-18B7-44ED-A5E8-C8439BAA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CF3C-C70F-45CE-9ADF-BD516C95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5D80-0210-4FF9-9ADB-2264BB213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CBCA-2518-4FC9-8D24-A535BC9EF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D516-5150-468D-AFBD-146B2FF0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D982-4B85-4FC0-BE13-5E1CF1AA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2A9D-1E66-4C99-863F-3B347969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B625-6BE3-4554-A76B-6D728956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2AEB-4E4B-4DC7-A5BE-092B7755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825F-A487-4904-B9AE-2A6D1606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AC26-9181-44C8-8DE6-5B8C7145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00F3-3D7A-4BA8-96AD-53675E6A04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B6F3-A028-4427-AB53-5FF2FF3CE1E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The Canterbury Tale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00"/>
                </a:solidFill>
                <a:latin typeface="Times New Roman"/>
              </a:rPr>
              <a:t>Pilgrim Analy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ergeant-at-Law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traits – None gi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essions – Multi-colored coat; silken belt; owned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s – Could recall every word &amp; comma of every judgment since King William; cautious; wise; elected for t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inion – He is a good lawyer, but he makes people think he is wiser than he really 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C:\Documents and Settings\tvest\Local Settings\Temporary Internet Files\Content.IE5\MXO70KCS\MCj02876240000[1].wmf"/>
          <p:cNvPicPr/>
          <p:nvPr/>
        </p:nvPicPr>
        <p:blipFill>
          <a:blip r:embed="rId1"/>
          <a:stretch/>
        </p:blipFill>
        <p:spPr>
          <a:xfrm>
            <a:off x="6705720" y="533520"/>
            <a:ext cx="19461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Frankli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traits – White beard; ruddy complex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essions – Dag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s – Spent $$ freely; lived for pleasure; enjoyed good food, fine wine, and pleasant company; kind; gracious; not of noble bi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inion – He is a partier and is well liked by the other pilgri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4" descr="C:\Documents and Settings\tvest\Local Settings\Temporary Internet Files\Content.IE5\LXVK7LTN\MPj04364290000[1].jpg"/>
          <p:cNvPicPr/>
          <p:nvPr/>
        </p:nvPicPr>
        <p:blipFill>
          <a:blip r:embed="rId1"/>
          <a:stretch/>
        </p:blipFill>
        <p:spPr>
          <a:xfrm>
            <a:off x="7010280" y="533520"/>
            <a:ext cx="190656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Haberdasher, Dyer, Weaver, Carpenter, Carpet Maker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traits – Freshly sha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essions – Luxurious clothing; silver kn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s – Proud of association with their guilds; went to church to be s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inion – They are proud of their skills, and they like to show off their wealth and guild member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3" descr="C:\Documents and Settings\tvest\Local Settings\Temporary Internet Files\Content.IE5\LCC4J7I6\MCj02406450000[1].wmf"/>
          <p:cNvPicPr/>
          <p:nvPr/>
        </p:nvPicPr>
        <p:blipFill>
          <a:blip r:embed="rId1"/>
          <a:stretch/>
        </p:blipFill>
        <p:spPr>
          <a:xfrm>
            <a:off x="6477120" y="533520"/>
            <a:ext cx="1369800" cy="1116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C:\Documents and Settings\tvest\Local Settings\Temporary Internet Files\Content.IE5\UYN64E12\MCPE06380_0000[1].wmf"/>
          <p:cNvPicPr/>
          <p:nvPr/>
        </p:nvPicPr>
        <p:blipFill>
          <a:blip r:embed="rId2"/>
          <a:stretch/>
        </p:blipFill>
        <p:spPr>
          <a:xfrm>
            <a:off x="7924680" y="609480"/>
            <a:ext cx="822600" cy="124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C:\Documents and Settings\tvest\Local Settings\Temporary Internet Files\Content.IE5\DUQEUR3W\MCj02957510000[1].wmf"/>
          <p:cNvPicPr/>
          <p:nvPr/>
        </p:nvPicPr>
        <p:blipFill>
          <a:blip r:embed="rId3"/>
          <a:stretch/>
        </p:blipFill>
        <p:spPr>
          <a:xfrm>
            <a:off x="7543800" y="1981080"/>
            <a:ext cx="1295280" cy="1187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C:\Documents and Settings\tvest\Local Settings\Temporary Internet Files\Content.IE5\56L17W2H\MCIN00295_0000[1].wmf"/>
          <p:cNvPicPr/>
          <p:nvPr/>
        </p:nvPicPr>
        <p:blipFill>
          <a:blip r:embed="rId4"/>
          <a:stretch/>
        </p:blipFill>
        <p:spPr>
          <a:xfrm>
            <a:off x="7772400" y="3276720"/>
            <a:ext cx="118116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ook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traits – Has a running sore on his l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essions – None gi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s – Can bake, boil, roast, or fry; best dish is blancmange (white fo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inion – He is a great cook, but his sore is a turn of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C:\Documents and Settings\tvest\Local Settings\Temporary Internet Files\Content.IE5\MXO70KCS\MMj02951630000[1].gif"/>
          <p:cNvPicPr/>
          <p:nvPr/>
        </p:nvPicPr>
        <p:blipFill>
          <a:blip r:embed="rId1"/>
          <a:stretch/>
        </p:blipFill>
        <p:spPr>
          <a:xfrm>
            <a:off x="6858000" y="609480"/>
            <a:ext cx="1268280" cy="1179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C:\Documents and Settings\tvest\Local Settings\Temporary Internet Files\Content.IE5\1DBOEHX0\MPj04339680000[1].jpg"/>
          <p:cNvPicPr/>
          <p:nvPr/>
        </p:nvPicPr>
        <p:blipFill>
          <a:blip r:embed="rId2"/>
          <a:stretch/>
        </p:blipFill>
        <p:spPr>
          <a:xfrm>
            <a:off x="3581280" y="4800600"/>
            <a:ext cx="205740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kipp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traits – Huge; uncouth; tan from years of sai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essions – A gown that reached his kn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s – Rode a farmer’s house; reads the stars; steals wine while traders sleep; fights well; makes prisoners walk the pla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inions – He doesn’t fit in well with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3" descr="C:\Documents and Settings\tvest\Local Settings\Temporary Internet Files\Content.IE5\LCC4J7I6\MCj01505590000[1].wmf"/>
          <p:cNvPicPr/>
          <p:nvPr/>
        </p:nvPicPr>
        <p:blipFill>
          <a:blip r:embed="rId1"/>
          <a:stretch/>
        </p:blipFill>
        <p:spPr>
          <a:xfrm>
            <a:off x="7391520" y="609480"/>
            <a:ext cx="1366560" cy="14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Docto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traits – None g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essions – Has a lot of $$ but doesn’t spend it; gold; blood-red gar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 – Knew astronomy; spoke well about medicine; in league with the druggists; didn’t read the B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nion – He seems to know what he is talking about, but he practices medicine for the money.  He is not hon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C:\Documents and Settings\tvest\Local Settings\Temporary Internet Files\Content.IE5\P5BNJ3Q1\MCj04360090000[1].wmf"/>
          <p:cNvPicPr/>
          <p:nvPr/>
        </p:nvPicPr>
        <p:blipFill>
          <a:blip r:embed="rId1"/>
          <a:stretch/>
        </p:blipFill>
        <p:spPr>
          <a:xfrm>
            <a:off x="7391520" y="609480"/>
            <a:ext cx="133020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ife of Bath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traits – Somewhat deaf; gap between her teeth; large 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essions – Scarlet-red stock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s – Excellent seamstress &amp; weaver; first at altar to make contribution; married 5 times; laughs; jokes; enjoys fellow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inion – She is an independent woman who knows what she wants in a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2" descr="C:\Documents and Settings\tvest\Local Settings\Temporary Internet Files\Content.IE5\MXO70KCS\MCj00835130000[1].wmf"/>
          <p:cNvPicPr/>
          <p:nvPr/>
        </p:nvPicPr>
        <p:blipFill>
          <a:blip r:embed="rId1"/>
          <a:stretch/>
        </p:blipFill>
        <p:spPr>
          <a:xfrm>
            <a:off x="7620120" y="685800"/>
            <a:ext cx="1071360" cy="12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ars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traits – None gi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essions – Very poor; has a sta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s – Spiritually rich; social status didn’t ma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inion – He is the ideal Christian m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3" descr="C:\Documents and Settings\tvest\Local Settings\Temporary Internet Files\Content.IE5\P5BNJ3Q1\MCSO02472_0000[1].wmf"/>
          <p:cNvPicPr/>
          <p:nvPr/>
        </p:nvPicPr>
        <p:blipFill>
          <a:blip r:embed="rId1"/>
          <a:stretch/>
        </p:blipFill>
        <p:spPr>
          <a:xfrm>
            <a:off x="6840360" y="609480"/>
            <a:ext cx="1793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lowma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traits – None gi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essions – A tabard smock; a m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s – Loved God; always honest; paid tithes; lived in perfect peace and cha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inion – He is an honest and godly m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3" descr="C:\Documents and Settings\tvest\Local Settings\Temporary Internet Files\Content.IE5\56L17W2H\MCj02874590000[1].wmf"/>
          <p:cNvPicPr/>
          <p:nvPr/>
        </p:nvPicPr>
        <p:blipFill>
          <a:blip r:embed="rId1"/>
          <a:stretch/>
        </p:blipFill>
        <p:spPr>
          <a:xfrm>
            <a:off x="6400800" y="533520"/>
            <a:ext cx="2332080" cy="14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Mill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traits – Big, brawny; short shouldered; broad; thick set; weighs 224 pounds; red beard; wart with hairs on his n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essions – White coat; blue hood; sword at his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s – Could outwrestle any man; loved to boast; told dirty stories; played bagpipes as the pilgrims left town; dishonest – put his thumb on the scale when selling g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inion – His is big, threatening, and dishon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2" descr="C:\Documents and Settings\tvest\Local Settings\Temporary Internet Files\Content.IE5\MXO70KCS\MCBD05181_0000[1].wmf"/>
          <p:cNvPicPr/>
          <p:nvPr/>
        </p:nvPicPr>
        <p:blipFill>
          <a:blip r:embed="rId1"/>
          <a:stretch/>
        </p:blipFill>
        <p:spPr>
          <a:xfrm>
            <a:off x="7238880" y="533520"/>
            <a:ext cx="156708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he Knigh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traits – n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essions – fine horse; worn cl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s – chivalrous; fought in many battles; modest (doesn’t brag); no outward show of weal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inion – a perfect gentleman who lives by the code of chival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5" descr="KnightonHorseback"/>
          <p:cNvPicPr/>
          <p:nvPr/>
        </p:nvPicPr>
        <p:blipFill>
          <a:blip r:embed="rId1"/>
          <a:stretch/>
        </p:blipFill>
        <p:spPr>
          <a:xfrm>
            <a:off x="6934320" y="685800"/>
            <a:ext cx="17334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Mancipl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traits – 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essions – None gi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s – Illiterate; outsmarts the educated by buying shrewdly &amp; keeping the extra; frugal; debt-f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inion – He is sly &amp; smart despite being illiter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3" descr="C:\Documents and Settings\tvest\Local Settings\Temporary Internet Files\Content.IE5\P5BNJ3Q1\MCBD07178_0000[1].wmf"/>
          <p:cNvPicPr/>
          <p:nvPr/>
        </p:nvPicPr>
        <p:blipFill>
          <a:blip r:embed="rId1"/>
          <a:stretch/>
        </p:blipFill>
        <p:spPr>
          <a:xfrm>
            <a:off x="7315200" y="762120"/>
            <a:ext cx="1279440" cy="10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Reev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traits – Skinny; long legs; close-cut beard; short 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essions – None gi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s – Skilled carpenter; bad temper; efficient; shrewd; feared by worked; rewarded by the master; last in the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inion – He is not friendly, and he is hard to work f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6" descr="C:\Documents and Settings\tvest\Local Settings\Temporary Internet Files\Content.IE5\UDL16J6R\MCj02502470000[1].wmf"/>
          <p:cNvPicPr/>
          <p:nvPr/>
        </p:nvPicPr>
        <p:blipFill>
          <a:blip r:embed="rId1"/>
          <a:stretch/>
        </p:blipFill>
        <p:spPr>
          <a:xfrm>
            <a:off x="7162920" y="685800"/>
            <a:ext cx="146664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ummon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traits – Fire-red complexion; pimples &amp; boils; scaly infection around eyebrows; moth-eaten b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essions – Garland on his head; dressed like a no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s – Feared by children; ate garlic, onions, leeks; drank strong wine; would ignore sins for a bottle of win; acquainted with women of questionable re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inion – He is ugly, dishonest, and easily bri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ardon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traits – Thin, yellow hair hung to shoulders; bulging eyeballs; couldn’t grow a be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essions – Holy relics; wal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 – Good at “preaching” &amp; collecting $$; sold useless pardons; fooled poor people, parsons, congreg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nion – He is a hypocrite who takes unfair advantage of others to make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Hos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traits – Very striking man; bright e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essions – None gi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s – Wise, full of tact; merry-hearted; jo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inion – None gi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3" descr="C:\Documents and Settings\tvest\Local Settings\Temporary Internet Files\Content.IE5\UYN64E12\MCBD05773_0000[1].wmf"/>
          <p:cNvPicPr/>
          <p:nvPr/>
        </p:nvPicPr>
        <p:blipFill>
          <a:blip r:embed="rId1"/>
          <a:stretch/>
        </p:blipFill>
        <p:spPr>
          <a:xfrm flipH="1">
            <a:off x="7620120" y="609480"/>
            <a:ext cx="977760" cy="11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he Squir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traits – curly hair; abo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 years old; average height; str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essions – short gown with long, wide sleeves; fl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 – courteous; lowly; serviceable; sang; played the flute; could joust and dance, draw and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nion – Young, concerned about his appearance, good with the la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" descr="Squire"/>
          <p:cNvPicPr/>
          <p:nvPr/>
        </p:nvPicPr>
        <p:blipFill>
          <a:blip r:embed="rId1"/>
          <a:stretch/>
        </p:blipFill>
        <p:spPr>
          <a:xfrm>
            <a:off x="6781680" y="609480"/>
            <a:ext cx="16480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he Yeoma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traits – brown face; head shaped like a n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essions – Medal of St. Christopher; bow &amp; arrow; spear, shield, sword; hunting ho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s – Expert woodsman; skilled in hunting; knew wood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inion – He is a faithful servant, a good hunter, and a good figh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2" descr="C:\Documents and Settings\tvest\Local Settings\Temporary Internet Files\Content.IE5\1DBOEHX0\MCj01160660000[1].wmf"/>
          <p:cNvPicPr/>
          <p:nvPr/>
        </p:nvPicPr>
        <p:blipFill>
          <a:blip r:embed="rId1"/>
          <a:stretch/>
        </p:blipFill>
        <p:spPr>
          <a:xfrm>
            <a:off x="6781680" y="380880"/>
            <a:ext cx="108612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riores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traits – Broad forehead; glass-gray eyes; elegant nose; small mou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essions – Gold brooch; jacket; coral trinkets; b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 – Neat &amp; tidy; spoke inferior French; coy, delicate, courteous; never dropped a morsel of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nion – She is more concerned about appearance &amp; worldly possessions than being a n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" descr="C:\Documents and Settings\tvest\Local Settings\Temporary Internet Files\Content.IE5\DUQEUR3W\MCj03362400000[1].wmf"/>
          <p:cNvPicPr/>
          <p:nvPr/>
        </p:nvPicPr>
        <p:blipFill>
          <a:blip r:embed="rId1"/>
          <a:stretch/>
        </p:blipFill>
        <p:spPr>
          <a:xfrm>
            <a:off x="6400800" y="457200"/>
            <a:ext cx="1297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Monk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traits – Fat; bald; good hearing; prominent eyeb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essions – several horses; finest saddles &amp; bridles; several hunting dogs; fine clothes with fur tr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 – Loved hunting, fine food; jolly, personable; loud; doesn’t like to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nion – He loves worldly pleasures, and he dislikes the quiet ways of the monast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2" descr="C:\Documents and Settings\tvest\Local Settings\Temporary Internet Files\Content.IE5\PPPANLD2\MMj03366710000[1].gif"/>
          <p:cNvPicPr/>
          <p:nvPr/>
        </p:nvPicPr>
        <p:blipFill>
          <a:blip r:embed="rId1"/>
          <a:stretch/>
        </p:blipFill>
        <p:spPr>
          <a:xfrm>
            <a:off x="6095880" y="533520"/>
            <a:ext cx="137952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Fria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traits – Strong, bul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essions – Harp; pocket knives; hooded ro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s – Helps girls get married; believes $$ clears sin faster than prayer; knows taverns &amp; inns better than leper ho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inion – He abuses his religious privileges by extorting money &amp; party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C:\Documents and Settings\tvest\Local Settings\Temporary Internet Files\Content.IE5\MXO70KCS\MCj01161280000[1].wmf"/>
          <p:cNvPicPr/>
          <p:nvPr/>
        </p:nvPicPr>
        <p:blipFill>
          <a:blip r:embed="rId1"/>
          <a:stretch/>
        </p:blipFill>
        <p:spPr>
          <a:xfrm>
            <a:off x="7696080" y="609480"/>
            <a:ext cx="91152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Merchan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traits – Forking be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essions – Multi-colored clothes; beaver hat; buckled boots; ho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s – Knows a good bargain; transacts business in a stately manner; really in de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inion – He appears to be a smart buisness man, but he is really in deb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" descr="C:\Documents and Settings\tvest\Local Settings\Temporary Internet Files\Content.IE5\1DBOEHX0\MCBD19909_0000[1].wmf"/>
          <p:cNvPicPr/>
          <p:nvPr/>
        </p:nvPicPr>
        <p:blipFill>
          <a:blip r:embed="rId1"/>
          <a:stretch/>
        </p:blipFill>
        <p:spPr>
          <a:xfrm>
            <a:off x="6934320" y="609480"/>
            <a:ext cx="160812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Oxford Cleric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traits – Thin; hollow look; sober (serious) st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essions – Threadbare clothes; thin horse; many boo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 – Would rather buy books than food or clothes; quiet but speaks with dignity; morally virtu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nion – He is very smart, decent, and morally conscio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C:\Documents and Settings\tvest\Local Settings\Temporary Internet Files\Content.IE5\UDL16J6R\MPj04395100000[1].jpg"/>
          <p:cNvPicPr/>
          <p:nvPr/>
        </p:nvPicPr>
        <p:blipFill>
          <a:blip r:embed="rId1"/>
          <a:stretch/>
        </p:blipFill>
        <p:spPr>
          <a:xfrm>
            <a:off x="6781680" y="609480"/>
            <a:ext cx="190656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22:46:12Z</dcterms:created>
  <dc:creator>Trina</dc:creator>
  <dc:description/>
  <dc:language>en-US</dc:language>
  <cp:lastModifiedBy>pcoles</cp:lastModifiedBy>
  <dcterms:modified xsi:type="dcterms:W3CDTF">2009-02-11T01:54:44Z</dcterms:modified>
  <cp:revision>25</cp:revision>
  <dc:subject/>
  <dc:title>The Canterbury Tales</dc:title>
</cp:coreProperties>
</file>